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4AA-A5EF-4109-B192-77F0FBC4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233-FC92-4D41-9556-B29126A2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39B-A47E-4F79-8110-E1A454A3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513-34D3-4C02-88CB-06AB74B5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906-707C-419B-A1AB-9A9EF67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641-2F66-49CB-85EC-384E1294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450-619E-4300-846B-EBED5BF8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664-F4E8-4644-8E49-23520B43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DA4-286F-4918-B87E-D457C9A9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51A-D35E-4565-8F9E-3127ADE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997-6FCA-4247-ACFF-50F2605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75B-1C78-411F-AC95-3071893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201A-ED3E-4B58-B9ED-9CE30B4EA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974880" y="5638680"/>
            <a:ext cx="123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ا آتي بطيبي فوقَ شعرِكَ، هبني الآنَ أعرفُ حقَّ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ِوَضاً عن شوكي في إكليلِك، واتْكِئَنَّ رأسي على ص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660680" y="5638680"/>
            <a:ext cx="128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كَسرتَ قلبَك من أجلي أنا،ها قارورةَ الطيبِ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كسرُها ه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َ قدَميكَ وأدهِنهم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حيث راحتي.. لا ولا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33200" y="5715000"/>
            <a:ext cx="113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يكن في قلبي شريكٌ ل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كلُّ حبي، لكَ وحد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ينكسِر قلبي ليشبَع قلبُكَ وكلُّ شهوتي في مجد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634760" y="5715000"/>
            <a:ext cx="130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تلِف نفسي عند قدميكْ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ُحظى دواماً بملءِ 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ر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سعى ضعيفا وأستند علي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تى كلُّ المجدِ يرجِعَ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497680" y="5699160"/>
            <a:ext cx="14007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كرم اسمكْ وأَرفَعْهُ الآ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ِئَلا تمضي الفرصة وينت</a:t>
            </a:r>
            <a:r>
              <a:rPr b="1" lang="ar-SA" sz="35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ز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ريم وحدَها قد فازت بالنيشا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طيبُ المريماتِ فاتَهُ الأو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2:49Z</dcterms:modified>
  <cp:revision>2</cp:revision>
  <dc:subject/>
  <dc:title>PowerPoint Presentation</dc:title>
</cp:coreProperties>
</file>